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chimes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B31-EADF-4E16-8E94-D5DDFC87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ABB-8910-4949-92B8-A93B3582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537-34C4-47DF-B9F2-FD6193AA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7AF-F1B8-4304-BC27-84D00E1F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38D-BAC6-4CC6-823B-A58C8CC0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EB8-E694-4C11-9986-62D8D9B2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A44-5CEC-4342-97ED-74FD9B80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CAA-0071-4052-8E12-A1E3F330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B1E-D1BF-4752-85A9-455AD5D1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468-209E-4102-90B5-ABA4CFF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EF3-6F8B-4257-9E2E-88134860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AE4-C53A-4F9B-91EB-F734A826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96DB-B30E-45DF-B4DF-321CDD7C9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icture7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9"/>
          <p:cNvSpPr/>
          <p:nvPr/>
        </p:nvSpPr>
        <p:spPr>
          <a:xfrm>
            <a:off x="762120" y="2438280"/>
            <a:ext cx="3200400" cy="22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iêu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- yê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ưu – ươ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4952880" y="2438280"/>
            <a:ext cx="3048120" cy="22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o bè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cá sấ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2819520" y="1600200"/>
            <a:ext cx="2895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ỂM TRA BÀI C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520" y="533520"/>
            <a:ext cx="8076960" cy="1076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685800" y="4419720"/>
            <a:ext cx="7391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à sáo sậu ở sau dãy núi. Sáo ưa nơi khô ráo, có nhiều châu chấu, cào cào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Scan0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762120" y="182880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Kính chào các thầy cô giáo đến thăm d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Lớp 1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79640" y="4191120"/>
            <a:ext cx="71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áo viên thực hiện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rần Thị Thanh Xuân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ường Tiểu học Nguyễn văn c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Picture7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380880" y="1981080"/>
            <a:ext cx="350532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ao      âu      eo    ươu    êu     yêu   iu       ưu     iê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4495680" y="2057400"/>
            <a:ext cx="350532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ao bèo  cá sấ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kì diệ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33520" y="533520"/>
            <a:ext cx="8076960" cy="1076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57200" y="4419720"/>
            <a:ext cx="77724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à sáo sậu ở sau dãy núi. Sáo ưa nơi khô ráo, có nhiều châu chấu, cào cào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Picture7"/>
          <p:cNvPicPr/>
          <p:nvPr/>
        </p:nvPicPr>
        <p:blipFill>
          <a:blip r:embed="rId1"/>
          <a:stretch/>
        </p:blipFill>
        <p:spPr>
          <a:xfrm>
            <a:off x="0" y="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33520" y="533520"/>
            <a:ext cx="807696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20968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905120" y="3124080"/>
            <a:ext cx="45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38080" y="3962520"/>
            <a:ext cx="31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ẹ c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905120" y="3124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6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0" descr="mẹ con"/>
          <p:cNvPicPr/>
          <p:nvPr/>
        </p:nvPicPr>
        <p:blipFill>
          <a:blip r:embed="rId2"/>
          <a:stretch/>
        </p:blipFill>
        <p:spPr>
          <a:xfrm>
            <a:off x="3886200" y="1676520"/>
            <a:ext cx="22860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Picture7"/>
          <p:cNvPicPr/>
          <p:nvPr/>
        </p:nvPicPr>
        <p:blipFill>
          <a:blip r:embed="rId1"/>
          <a:stretch/>
        </p:blipFill>
        <p:spPr>
          <a:xfrm>
            <a:off x="533520" y="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533520" y="533520"/>
            <a:ext cx="807696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819520" y="24382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590920" y="327672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295280" y="411480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ẹ c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9548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57200" y="1523880"/>
            <a:ext cx="6324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ài 4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ff"/>
                </a:solidFill>
                <a:latin typeface="Times New Roman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324480" y="24382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095880" y="32767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40080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6553080" y="3505320"/>
            <a:ext cx="76320" cy="75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9" descr="Picture7"/>
          <p:cNvPicPr/>
          <p:nvPr/>
        </p:nvPicPr>
        <p:blipFill>
          <a:blip r:embed="rId1"/>
          <a:stretch/>
        </p:blipFill>
        <p:spPr>
          <a:xfrm>
            <a:off x="0" y="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3520" y="533520"/>
            <a:ext cx="807696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6" descr="nhà sàn"/>
          <p:cNvPicPr/>
          <p:nvPr/>
        </p:nvPicPr>
        <p:blipFill>
          <a:blip r:embed="rId2"/>
          <a:stretch/>
        </p:blipFill>
        <p:spPr>
          <a:xfrm>
            <a:off x="1523880" y="1828800"/>
            <a:ext cx="5867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Picture7"/>
          <p:cNvPicPr/>
          <p:nvPr/>
        </p:nvPicPr>
        <p:blipFill>
          <a:blip r:embed="rId1"/>
          <a:stretch/>
        </p:blipFill>
        <p:spPr>
          <a:xfrm>
            <a:off x="533520" y="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533520" y="533520"/>
            <a:ext cx="807696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819520" y="24382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90920" y="327672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295280" y="411480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ẹ c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89548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57200" y="1523880"/>
            <a:ext cx="6324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ài 4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ff"/>
                </a:solidFill>
                <a:latin typeface="Times New Roman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324480" y="24382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095880" y="32767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40080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4"/>
          <p:cNvSpPr/>
          <p:nvPr/>
        </p:nvSpPr>
        <p:spPr>
          <a:xfrm>
            <a:off x="6553080" y="3505320"/>
            <a:ext cx="76320" cy="75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648320" y="411480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à sà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181480" y="15238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Picture7"/>
          <p:cNvPicPr/>
          <p:nvPr/>
        </p:nvPicPr>
        <p:blipFill>
          <a:blip r:embed="rId1"/>
          <a:stretch/>
        </p:blipFill>
        <p:spPr>
          <a:xfrm>
            <a:off x="0" y="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33520" y="533520"/>
            <a:ext cx="807696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819520" y="21337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666880" y="2666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676520" y="30481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ẹ c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895480" y="266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57200" y="15238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ài 4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943600" y="2133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791320" y="26668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19920" y="266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4"/>
          <p:cNvSpPr/>
          <p:nvPr/>
        </p:nvSpPr>
        <p:spPr>
          <a:xfrm>
            <a:off x="6172200" y="2819520"/>
            <a:ext cx="76320" cy="75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724280" y="289548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à s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724280" y="12952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209680" y="40384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u n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09680" y="4648320"/>
          <a:ext cx="4151520" cy="1295280"/>
        </p:xfrm>
        <a:graphic>
          <a:graphicData uri="http://schemas.openxmlformats.org/drawingml/2006/table">
            <a:tbl>
              <a:tblPr/>
              <a:tblGrid>
                <a:gridCol w="41515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òn đ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5"/>
          <p:cNvSpPr/>
          <p:nvPr/>
        </p:nvSpPr>
        <p:spPr>
          <a:xfrm>
            <a:off x="5029200" y="4038480"/>
            <a:ext cx="36892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ợ 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029200" y="4648320"/>
            <a:ext cx="33526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àn ghế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895480" y="380880"/>
            <a:ext cx="3657600" cy="838440"/>
          </a:xfrm>
          <a:prstGeom prst="rect">
            <a:avLst/>
          </a:prstGeom>
          <a:solidFill>
            <a:srgbClr val="fb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ợ hà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thợ hàn"/>
          <p:cNvPicPr/>
          <p:nvPr/>
        </p:nvPicPr>
        <p:blipFill>
          <a:blip r:embed="rId1"/>
          <a:stretch/>
        </p:blipFill>
        <p:spPr>
          <a:xfrm>
            <a:off x="2031840" y="1447920"/>
            <a:ext cx="5080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Picture7"/>
          <p:cNvPicPr/>
          <p:nvPr/>
        </p:nvPicPr>
        <p:blipFill>
          <a:blip r:embed="rId1"/>
          <a:stretch/>
        </p:blipFill>
        <p:spPr>
          <a:xfrm>
            <a:off x="0" y="0"/>
            <a:ext cx="9144000" cy="64897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17" name="Text Box 4"/>
          <p:cNvSpPr/>
          <p:nvPr/>
        </p:nvSpPr>
        <p:spPr>
          <a:xfrm>
            <a:off x="533520" y="533520"/>
            <a:ext cx="807696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819520" y="21337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666880" y="2666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676520" y="30481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ẹ c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895480" y="266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57200" y="15238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ài 4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943600" y="2133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791320" y="26668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019920" y="266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172200" y="2819520"/>
            <a:ext cx="76320" cy="75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724280" y="289548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à s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724280" y="12952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209680" y="40384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u n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09680" y="4648320"/>
          <a:ext cx="4151520" cy="1295280"/>
        </p:xfrm>
        <a:graphic>
          <a:graphicData uri="http://schemas.openxmlformats.org/drawingml/2006/table">
            <a:tbl>
              <a:tblPr/>
              <a:tblGrid>
                <a:gridCol w="41515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òn đ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5"/>
          <p:cNvSpPr/>
          <p:nvPr/>
        </p:nvSpPr>
        <p:spPr>
          <a:xfrm>
            <a:off x="5029200" y="4038480"/>
            <a:ext cx="36892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ợ 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5029200" y="4648320"/>
            <a:ext cx="33526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àn ghế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2"/>
          <p:cNvSpPr/>
          <p:nvPr/>
        </p:nvSpPr>
        <p:spPr>
          <a:xfrm>
            <a:off x="3124080" y="4648320"/>
            <a:ext cx="6858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25"/>
          <p:cNvSpPr/>
          <p:nvPr/>
        </p:nvSpPr>
        <p:spPr>
          <a:xfrm>
            <a:off x="2362320" y="5257800"/>
            <a:ext cx="6858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26"/>
          <p:cNvSpPr/>
          <p:nvPr/>
        </p:nvSpPr>
        <p:spPr>
          <a:xfrm>
            <a:off x="5943600" y="4648320"/>
            <a:ext cx="6858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27"/>
          <p:cNvSpPr/>
          <p:nvPr/>
        </p:nvSpPr>
        <p:spPr>
          <a:xfrm>
            <a:off x="5181480" y="5257800"/>
            <a:ext cx="6858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3:00:31Z</dcterms:created>
  <dc:creator>QuangHuy</dc:creator>
  <dc:description/>
  <dc:language>en-US</dc:language>
  <cp:lastModifiedBy>Admin</cp:lastModifiedBy>
  <dcterms:modified xsi:type="dcterms:W3CDTF">2011-11-07T02:42:23Z</dcterms:modified>
  <cp:revision>51</cp:revision>
  <dc:subject/>
  <dc:title>Slide 1</dc:title>
</cp:coreProperties>
</file>